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797B-A692-4F64-8AD4-A356AA198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F572-5818-4898-A705-B6BE2777B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78B-1197-404D-A549-E78757B7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A71-99C3-4EA6-B750-FEE70D17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1F2D-66A4-446A-AF35-B65F5F7B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B6D4-197F-47A8-8F53-8024C7FE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7393-4B6C-4C2D-A5C0-5B490050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D911-F9D6-4DFC-ADF9-5DF9A465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979D-95FF-43B3-A1FA-69AC0A62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23B-36C3-4E3C-B2B0-3B252ABF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832F-F83A-4D65-AADA-0B9FFFBF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1DB-3CBA-4FFF-82F0-FF6E68F7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D1F-D36F-4895-BEF0-BC0DE3F9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8BD-9191-4280-970C-E142ECD1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E1B5-023B-4C37-ACAB-EAF69790C3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CT 333: Imagining the Audience in a Wired Wor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7: Qualitativ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cusing strongly on one instance - “thick description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al is not generalizability but transferability - case is unique but can still highlight trends in similar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uild towards grounded (or intuitive) theory - particularly if other cases confirm – e.g., Gersick’s “punctuated equilibrium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 to project focu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nography &amp; Ob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through observing people and their activities in con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nography - a more detailed, holistic investigation of people and their social con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empathy but also some degree of neutrality (or else you “go native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 to project focu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xtual Inquiry and Action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in design, the point is not simply to understand but to influence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ual inquiry - elements of observation but also elements of changing that which is observed – e.g., Suchman “situated actions”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grates many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s buy-in of those in contex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xtual Inquiry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ef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ltu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w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of flow of information (and its potential breakdow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, processes and groups - and their relations in handling in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 is often circular – feedback lo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g., Choo – information needs, seeking and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examp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gs to consider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ual links vs. theoretical (e.g., the org chart probl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atic actions - things that people do without thi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for breakdowns and bottlene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quence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task representation - flow for tasks (similar to Assignment 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t - what sequence is supposed to 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gger - what sets the sequence in 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s - how this is d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kdowns - problems in proced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gs to consider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vents that impact performance local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ons or intents that don’t fit the “right” model - breakdowns and contingen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nches of action - flowchart and decision m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ifact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ols and artifacts of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 (what 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 (information about what 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ation (representation of what 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otation (comments about what 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gs to consider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ifacts as representations of flow and sequence – information artifacts are usually very 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in artifact form, presentation might cause immediate concern or revolt from users -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in groups by today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sal research – moving to the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ensure you have everything in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scenarios/requirements and 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presentations still the s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design projects around either sustainable technologies or appropriate tech for underserved populations (design for the other 9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ltural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ive culture, norms, values of culture - and its influence on activity, for better or wo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luencers - leaders (formal and informal) whose actions carry weight (and conversely, those who don’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gs to consider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le influence (e.g., role of authority structure, bridging ro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acteristics and mobility of informal lea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ques and counter-cultures - why they exist, and why they can be of help at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al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ce and proximity can influence flow and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lay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flow movement diagra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strial design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gs to consider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pping layout and flow in physical s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tlenecks and potential efficien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s to culture - are cliques physically separated as wel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we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s on surveys and quantitative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: what methods to choo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“right” answer as to what methods to use (but there’s better and worse solutions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sions based on focus of inquiry, required knowledge, resources available, costs, access to people, activities, contexts,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xed methods - complementary methods that back up same conclusion – helpful, but complicated to design research r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litative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quiries for general vs. specific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in human/social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s and tells a narrative – can be used in informing use cases, scena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ary source resear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views/Focus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 Studies/Grounded The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hnography/Ob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ual Inquiry/Action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ondary Source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ary source - learning from what’s already out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reading - what was learned when from whom via what methods - and consequently, what was not lear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cation to project focu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nt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rative created through analysis of existing or generated artif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mpt to find common patterns or occur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d - either computer-based (e.g., nVivo) or manually (e.g., index cards, whiteboar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cation to project focu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s with individuals to discover their perspective or opin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d vs. unstructured – most are struct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be recorded and analyzed at later date via content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cation to project focu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cus Grou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ective interview - allows for gaining more opinion in sam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generates information via dialogue and debate - especially in heterogeneous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ries of groupthink, leaders influencing discu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more complic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ication to project focu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6:40:12Z</dcterms:created>
  <dc:creator/>
  <dc:description/>
  <dc:language>en-US</dc:language>
  <cp:lastModifiedBy>Sheridan College</cp:lastModifiedBy>
  <dcterms:modified xsi:type="dcterms:W3CDTF">2010-02-22T18:06:52Z</dcterms:modified>
  <cp:revision>18</cp:revision>
  <dc:subject/>
  <dc:title>CCT 333: Imagining the Audience in a Wired World</dc:title>
</cp:coreProperties>
</file>